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media/image1.wmf" ContentType="image/x-wmf"/>
  <Override PartName="/ppt/media/image2.png" ContentType="image/png"/>
  <Override PartName="/ppt/media/AVISO.WAV" ContentType="audio/x-wav"/>
  <Override PartName="/ppt/media/CLIC.WAV" ContentType="audio/x-wav"/>
  <Override PartName="/ppt/media/DIAPO.WAV" ContentType="audio/x-wav"/>
  <Override PartName="/ppt/media/ARPEGIO.WAV" ContentType="audio/x-wav"/>
  <Override PartName="/ppt/media/image3.jpeg" ContentType="image/jpe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40B4-227C-4354-91FA-EB940D59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4CF1-DDB7-4DB0-B595-BC1458D0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B4F9-4B5C-4B9A-A839-07F8B8AE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410E-D045-4FF0-A20F-A4497125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F1C0-02FA-4E0E-B273-6C0A5B3F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8CFF-00C3-4F13-8215-3BE5BDD1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B07-0F64-4291-AA45-00AFED9B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E245-0C88-4C79-93EE-84BDC055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F49D-0FB1-4EBC-A417-8ADBE753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0F5C-CB85-4E9F-8AEB-BE557FB1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DDC3-316C-4B93-8777-FC6D6F2B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C4F2-A5A8-454E-9F2C-32A641D4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50000">
              <a:srgbClr val="ffffff"/>
            </a:gs>
            <a:gs pos="100000">
              <a:srgbClr val="00808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5E93-DC14-4746-9580-1078E2C7F72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RPEGIO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AVISO.WAV"/><Relationship Id="rId3" Type="http://schemas.openxmlformats.org/officeDocument/2006/relationships/audio" Target="../media/AVISO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audio" Target="../media/ARPEGIO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audio" Target="../media/AVISO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IAPO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1718-29BB-453D-A74B-4D6E692C1A2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611280" y="2205000"/>
            <a:ext cx="7921440" cy="424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360" y="-360"/>
            <a:ext cx="889344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a50021"/>
                </a:solidFill>
                <a:latin typeface="Century Gothic"/>
              </a:rPr>
              <a:t>UNIVERSIDAD RICARDO PALMA</a:t>
            </a:r>
            <a:br>
              <a:rPr sz="3200"/>
            </a:br>
            <a:br>
              <a:rPr sz="1000"/>
            </a:b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000000"/>
                </a:solidFill>
                <a:latin typeface="Arial Narrow"/>
              </a:rPr>
              <a:t>ESCUELA DE POST GRADO</a:t>
            </a:r>
            <a:br>
              <a:rPr sz="3600"/>
            </a:br>
            <a:br>
              <a:rPr sz="3600"/>
            </a:br>
            <a:br>
              <a:rPr sz="1000"/>
            </a:br>
            <a:br>
              <a:rPr sz="1000"/>
            </a:br>
            <a:r>
              <a:rPr b="1" lang="es-MX" sz="3200" spc="-1" strike="noStrike">
                <a:solidFill>
                  <a:srgbClr val="000099"/>
                </a:solidFill>
                <a:latin typeface="Trebuchet MS"/>
              </a:rPr>
              <a:t>PSICOLOGÍA  EDUCATIVA</a:t>
            </a:r>
            <a:br>
              <a:rPr sz="3200"/>
            </a:br>
            <a:br>
              <a:rPr sz="3200"/>
            </a:br>
            <a:r>
              <a:rPr b="1" lang="es-MX" sz="3200" spc="-1" strike="noStrike">
                <a:solidFill>
                  <a:srgbClr val="a50021"/>
                </a:solidFill>
                <a:latin typeface="Trebuchet MS"/>
              </a:rPr>
              <a:t>UNIDAD III</a:t>
            </a:r>
            <a:br>
              <a:rPr sz="3200"/>
            </a:br>
            <a:r>
              <a:rPr b="1" lang="es-MX" sz="3200" spc="-1" strike="noStrike">
                <a:solidFill>
                  <a:srgbClr val="a50021"/>
                </a:solidFill>
                <a:latin typeface="Trebuchet MS"/>
              </a:rPr>
              <a:t>  </a:t>
            </a:r>
            <a:r>
              <a:rPr b="1" lang="es-ES" sz="2800" spc="-1" strike="noStrike">
                <a:solidFill>
                  <a:srgbClr val="a50021"/>
                </a:solidFill>
                <a:latin typeface="Georgia"/>
              </a:rPr>
              <a:t>LOS FUNDAMENTOS DE LAS TEORÍAS</a:t>
            </a:r>
            <a:br>
              <a:rPr sz="2800"/>
            </a:br>
            <a:r>
              <a:rPr b="1" lang="es-ES" sz="2800" spc="-1" strike="noStrike">
                <a:solidFill>
                  <a:srgbClr val="a50021"/>
                </a:solidFill>
                <a:latin typeface="Georgia"/>
              </a:rPr>
              <a:t> DEL APRENDIZAJE</a:t>
            </a: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br>
              <a:rPr sz="2800"/>
            </a:br>
            <a:r>
              <a:rPr b="1" lang="es-MX" sz="2800" spc="-1" strike="noStrike">
                <a:solidFill>
                  <a:srgbClr val="000099"/>
                </a:solidFill>
                <a:latin typeface="Georgia"/>
              </a:rPr>
              <a:t>Profesor:</a:t>
            </a:r>
            <a:r>
              <a:rPr b="1" lang="es-MX" sz="2800" spc="-1" strike="noStrike">
                <a:solidFill>
                  <a:srgbClr val="000099"/>
                </a:solidFill>
                <a:latin typeface="Georgia"/>
              </a:rPr>
              <a:t>	</a:t>
            </a:r>
            <a:r>
              <a:rPr b="1" lang="es-MX" sz="2800" spc="-1" strike="noStrike">
                <a:solidFill>
                  <a:srgbClr val="000099"/>
                </a:solidFill>
                <a:latin typeface="Georgia"/>
              </a:rPr>
              <a:t>Dr. José Anicama 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6 Rectángulo"/>
          <p:cNvSpPr/>
          <p:nvPr/>
        </p:nvSpPr>
        <p:spPr>
          <a:xfrm>
            <a:off x="4004280" y="585792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62699"/>
                </a:solidFill>
                <a:latin typeface="Times New Roman"/>
              </a:rPr>
              <a:t>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CB90-8131-4C80-8DD7-50B4AABE7DD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imes New Roman"/>
              </a:rPr>
              <a:t>Aprendizaje como PRODUCTO (E - 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3300"/>
                </a:solidFill>
                <a:uFillTx/>
                <a:latin typeface="Times New Roman"/>
              </a:rPr>
              <a:t>Concepto</a:t>
            </a:r>
            <a:r>
              <a:rPr b="1" lang="es-ES_tradnl" sz="3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395280" y="2421000"/>
            <a:ext cx="8305920" cy="2590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imes New Roman"/>
              </a:rPr>
              <a:t>EL APRENDIZAJE ES EL CAMBIO RELA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3300"/>
                </a:solidFill>
                <a:latin typeface="Times New Roman"/>
              </a:rPr>
              <a:t>ESTABLE   EN EL COMPORTAMIENTO DE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3300"/>
                </a:solidFill>
                <a:latin typeface="Times New Roman"/>
              </a:rPr>
              <a:t>ORGANISMOS QUE TIENE LUGAR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3300"/>
                </a:solidFill>
                <a:latin typeface="Times New Roman"/>
              </a:rPr>
              <a:t>DE LA PRACTICA O DE LA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ARPEGIO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BC19-2FBD-488F-BD63-B33C46E508E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imes New Roman"/>
              </a:rPr>
              <a:t>2. Modelo E-O-R: El aprendizaje como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568600" y="1650960"/>
            <a:ext cx="2362320" cy="10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00"/>
                </a:solidFill>
                <a:latin typeface="Times New Roman"/>
              </a:rPr>
              <a:t>“</a:t>
            </a:r>
            <a:r>
              <a:rPr b="1" lang="es-ES" sz="2600" spc="-1" strike="noStrike">
                <a:solidFill>
                  <a:srgbClr val="003300"/>
                </a:solidFill>
                <a:latin typeface="Times New Roman"/>
              </a:rPr>
              <a:t>O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Tahoma"/>
              </a:rPr>
              <a:t>Procesamiento</a:t>
            </a:r>
            <a:r>
              <a:rPr b="1" lang="es-ES" sz="1500" spc="-1" strike="noStrike">
                <a:solidFill>
                  <a:srgbClr val="003300"/>
                </a:solidFill>
                <a:latin typeface="Tahoma"/>
              </a:rPr>
              <a:t> de Informació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828720" y="1847880"/>
            <a:ext cx="566640" cy="49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724880" y="1795320"/>
            <a:ext cx="566640" cy="49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28600" y="3424320"/>
            <a:ext cx="274320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00"/>
                </a:solidFill>
                <a:latin typeface="Tahoma"/>
              </a:rPr>
              <a:t>Estímu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00"/>
                </a:solidFill>
                <a:latin typeface="Tahoma"/>
              </a:rPr>
              <a:t>(experiencia educativ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6172200" y="3367080"/>
            <a:ext cx="2590920" cy="68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00"/>
                </a:solidFill>
                <a:latin typeface="Tahoma"/>
              </a:rPr>
              <a:t>Comportamientos abiertos y encubier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2984400" y="2971800"/>
            <a:ext cx="15112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00"/>
                </a:solidFill>
                <a:latin typeface="Tahoma"/>
              </a:rPr>
              <a:t>Org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5410080" y="914400"/>
            <a:ext cx="2419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Tahoma"/>
              </a:rPr>
              <a:t>Retro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639720" y="4840200"/>
            <a:ext cx="94464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Times New Roman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7440480" y="4840200"/>
            <a:ext cx="113364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Tahoma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1490760" y="2090880"/>
            <a:ext cx="944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5079960" y="2090880"/>
            <a:ext cx="2549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8007480" y="2286000"/>
            <a:ext cx="0" cy="10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8007480" y="4054320"/>
            <a:ext cx="0" cy="689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6"/>
          <p:cNvSpPr/>
          <p:nvPr/>
        </p:nvSpPr>
        <p:spPr>
          <a:xfrm flipV="1">
            <a:off x="8007480" y="1206000"/>
            <a:ext cx="0" cy="490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7"/>
          <p:cNvSpPr/>
          <p:nvPr/>
        </p:nvSpPr>
        <p:spPr>
          <a:xfrm flipH="1">
            <a:off x="3757320" y="1206360"/>
            <a:ext cx="424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8"/>
          <p:cNvSpPr/>
          <p:nvPr/>
        </p:nvSpPr>
        <p:spPr>
          <a:xfrm>
            <a:off x="3757680" y="1206360"/>
            <a:ext cx="0" cy="392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1109520" y="2286000"/>
            <a:ext cx="0" cy="1081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0"/>
          <p:cNvSpPr/>
          <p:nvPr/>
        </p:nvSpPr>
        <p:spPr>
          <a:xfrm flipV="1">
            <a:off x="1112760" y="3858840"/>
            <a:ext cx="0" cy="981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1"/>
          <p:cNvSpPr/>
          <p:nvPr/>
        </p:nvSpPr>
        <p:spPr>
          <a:xfrm>
            <a:off x="8007480" y="5234040"/>
            <a:ext cx="0" cy="392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2"/>
          <p:cNvSpPr/>
          <p:nvPr/>
        </p:nvSpPr>
        <p:spPr>
          <a:xfrm flipH="1">
            <a:off x="5928840" y="5626080"/>
            <a:ext cx="2078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23"/>
          <p:cNvSpPr/>
          <p:nvPr/>
        </p:nvSpPr>
        <p:spPr>
          <a:xfrm flipH="1">
            <a:off x="1112760" y="5626080"/>
            <a:ext cx="4911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24"/>
          <p:cNvSpPr/>
          <p:nvPr/>
        </p:nvSpPr>
        <p:spPr>
          <a:xfrm flipV="1">
            <a:off x="1112760" y="5135040"/>
            <a:ext cx="0" cy="490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3200400" y="5724360"/>
            <a:ext cx="2446200" cy="2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Tahoma"/>
              </a:rPr>
              <a:t>Retro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6" descr=""/>
          <p:cNvPicPr/>
          <p:nvPr/>
        </p:nvPicPr>
        <p:blipFill>
          <a:blip r:embed="rId1"/>
          <a:stretch/>
        </p:blipFill>
        <p:spPr>
          <a:xfrm>
            <a:off x="3429000" y="342900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Tahoma"/>
              </a:rPr>
              <a:t>Figura N° 5: Modelo de Estudio del Aprendizaje  E-O-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Tahoma"/>
              </a:rPr>
              <a:t>                      </a:t>
            </a:r>
            <a:r>
              <a:rPr b="1" lang="es-ES_tradnl" sz="2000" spc="-1" strike="noStrike">
                <a:solidFill>
                  <a:srgbClr val="993300"/>
                </a:solidFill>
                <a:latin typeface="Tahoma"/>
              </a:rPr>
              <a:t>Revisado por J. Anicama (20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  <p:sndAc>
      <p:stSnd>
        <p:snd r:embed="rId2" name="AVISO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VIS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0EBB-AAA2-487D-93DD-3F161AC55CA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3300"/>
                </a:solidFill>
                <a:latin typeface="Times New Roman"/>
              </a:rPr>
              <a:t>Aprendizaje como PROCESO (E-O-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3300"/>
                </a:solidFill>
                <a:uFillTx/>
                <a:latin typeface="Times New Roman"/>
              </a:rPr>
              <a:t>Concepto</a:t>
            </a:r>
            <a:r>
              <a:rPr b="1" lang="es-ES_tradnl" sz="3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95280" y="2276640"/>
            <a:ext cx="8305920" cy="289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imes New Roman"/>
              </a:rPr>
              <a:t>EL APRENDIZAJE ES EL PROCESO COMPLEJ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imes New Roman"/>
              </a:rPr>
              <a:t>ADQUISICIÓN DE CONOCIMIENTOS, HABILIDAD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imes New Roman"/>
              </a:rPr>
              <a:t>DESTREZAS, VALORES, CREENCIAS, ETC.  EN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imes New Roman"/>
              </a:rPr>
              <a:t>CUAL INTERVIENEN UN CONJUNTO DE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imes New Roman"/>
              </a:rPr>
              <a:t>AFECTIVOS, COGNITIVOS, SOCIALES Y BIOLÓG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LIC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3E35-B0DC-4CD7-B945-2C1BD656708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3300"/>
                </a:solidFill>
                <a:latin typeface="Times New Roman"/>
              </a:rPr>
              <a:t>Objetivo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3141720"/>
            <a:ext cx="7772400" cy="18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CRIMINAR Y UTILIZAR ALGUNAS FORMAS O ESTRATEGIAS DE ESTUDIO DE LAS VARIABLES INTERVINIENTES EN EL APRENDIZ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49D7-F372-4ECC-B228-2ED81B85947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5"/>
          <p:cNvSpPr/>
          <p:nvPr/>
        </p:nvSpPr>
        <p:spPr>
          <a:xfrm>
            <a:off x="0" y="6172200"/>
            <a:ext cx="9144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Tahoma"/>
              </a:rPr>
              <a:t>Figura N° 6a:  Formas o Estrategias de estudio/análisis de la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Tahoma"/>
              </a:rPr>
              <a:t>                </a:t>
            </a:r>
            <a:r>
              <a:rPr b="1" lang="es-ES_tradnl" sz="2000" spc="-1" strike="noStrike">
                <a:solidFill>
                  <a:srgbClr val="993300"/>
                </a:solidFill>
                <a:latin typeface="Tahoma"/>
              </a:rPr>
              <a:t>Interviniente en el Aprendizaje.  J. Anicama (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Object 21"/>
          <p:cNvGraphicFramePr/>
          <p:nvPr/>
        </p:nvGraphicFramePr>
        <p:xfrm>
          <a:off x="914400" y="431640"/>
          <a:ext cx="7327800" cy="5499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7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31640"/>
                    <a:ext cx="7327800" cy="549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  <p:sndAc>
      <p:stSnd>
        <p:snd r:embed="rId3" name="ARPEGIO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8987-9AF5-487E-A3D6-50995F0BD99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2"/>
          <p:cNvSpPr/>
          <p:nvPr/>
        </p:nvSpPr>
        <p:spPr>
          <a:xfrm>
            <a:off x="0" y="6172200"/>
            <a:ext cx="9144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Tahoma"/>
              </a:rPr>
              <a:t>Figura N° 6b:  Formas o Estrategias de estudio/análisis de la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Tahoma"/>
              </a:rPr>
              <a:t>                </a:t>
            </a:r>
            <a:r>
              <a:rPr b="1" lang="es-ES_tradnl" sz="2000" spc="-1" strike="noStrike">
                <a:solidFill>
                  <a:srgbClr val="993300"/>
                </a:solidFill>
                <a:latin typeface="Tahoma"/>
              </a:rPr>
              <a:t>Interviniente en el Aprendizaje.  J. Anicama (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Objeto 5" descr=""/>
          <p:cNvPicPr/>
          <p:nvPr/>
        </p:nvPicPr>
        <p:blipFill>
          <a:blip r:embed="rId1"/>
          <a:srcRect l="0" t="0" r="-64" b="-218"/>
          <a:stretch/>
        </p:blipFill>
        <p:spPr>
          <a:xfrm>
            <a:off x="214200" y="357120"/>
            <a:ext cx="8715600" cy="5786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2" name="CLIC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A810-14C9-4279-9724-B0175F9AA7B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4240" y="14288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a50021"/>
                </a:solidFill>
                <a:latin typeface="Times New Roman"/>
              </a:rPr>
              <a:t>Objetivo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3141720"/>
            <a:ext cx="8280360" cy="1511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00"/>
                </a:solidFill>
                <a:latin typeface="Times New Roman"/>
              </a:rPr>
              <a:t>DISCRIMINAR LOS PRINCIPIOS EPISTEMOLÓGICOS DE LA PSICOLOGÍA CIENTÍF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F3E1-7E59-4BB9-B407-8AC14A59BCB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71280" y="620280"/>
            <a:ext cx="7848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1" lang="es-ES" sz="2800" spc="-1" strike="noStrike">
                <a:solidFill>
                  <a:srgbClr val="003300"/>
                </a:solidFill>
                <a:latin typeface="Verdana"/>
              </a:rPr>
              <a:t>1.1 </a:t>
            </a:r>
            <a:r>
              <a:rPr b="1" lang="es-ES" sz="3200" spc="-1" strike="noStrike">
                <a:solidFill>
                  <a:srgbClr val="993300"/>
                </a:solidFill>
                <a:latin typeface="Tahoma"/>
              </a:rPr>
              <a:t>Principios epistemo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Cuatro  supuestos  básicos  de  filosofía de  ciencia  (principios epistemológicos)  soportan   la  producción    de   conocimiento científi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349"/>
              </a:spcBef>
              <a:buClr>
                <a:srgbClr val="0033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La obje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349"/>
              </a:spcBef>
              <a:buClr>
                <a:srgbClr val="0033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La caus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349"/>
              </a:spcBef>
              <a:buClr>
                <a:srgbClr val="0033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La verif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349"/>
              </a:spcBef>
              <a:buClr>
                <a:srgbClr val="0033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La  re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E60B-164B-46DC-B62D-F348987E643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24000" y="981000"/>
            <a:ext cx="2305080" cy="1152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rincip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pistem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348000" y="981000"/>
            <a:ext cx="2305080" cy="1152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iencia bá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6227640" y="981000"/>
            <a:ext cx="2305080" cy="1152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plicada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357720"/>
            <a:ext cx="1800360" cy="165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Obje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aus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Repl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3348000" y="3429000"/>
            <a:ext cx="2303640" cy="158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Psicología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prendiza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Hechos y concep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Leyes y princi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6372360" y="3429000"/>
            <a:ext cx="2160360" cy="158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ecnolog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Educati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iseñ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istem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enseñ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2627280" y="1628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3"/>
          <p:cNvSpPr/>
          <p:nvPr/>
        </p:nvSpPr>
        <p:spPr>
          <a:xfrm>
            <a:off x="5651640" y="1628640"/>
            <a:ext cx="64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5724360" y="4221000"/>
            <a:ext cx="6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5"/>
          <p:cNvSpPr/>
          <p:nvPr/>
        </p:nvSpPr>
        <p:spPr>
          <a:xfrm>
            <a:off x="2411280" y="414972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0" y="6156360"/>
            <a:ext cx="9144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Tahoma"/>
              </a:rPr>
              <a:t>Figura 1 :  Relaciones entre epistemología (filosofía de la cienc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Tahoma"/>
              </a:rPr>
              <a:t>    </a:t>
            </a:r>
            <a:r>
              <a:rPr b="1" lang="es-ES_tradnl" sz="2000" spc="-1" strike="noStrike">
                <a:solidFill>
                  <a:srgbClr val="993300"/>
                </a:solidFill>
                <a:latin typeface="Tahoma"/>
              </a:rPr>
              <a:t>ciencia básica y tecnología.  J. Anicama (20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3416-DD0C-450F-ADE9-B92EC0FF78E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3300"/>
                </a:solidFill>
                <a:latin typeface="Times New Roman"/>
              </a:rPr>
              <a:t>Objetivo 2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3068280"/>
            <a:ext cx="7772400" cy="13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00"/>
                </a:solidFill>
                <a:latin typeface="Times New Roman"/>
              </a:rPr>
              <a:t>DISCRIMINAR Y UTILIZAR UNA CONCEPCIÓN FÁCTICA O EMPÍRICA DEL APRENDIZ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CF38-4483-48CF-98C8-B1458E8BDE1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28600" y="304920"/>
            <a:ext cx="167148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3300"/>
                </a:solidFill>
                <a:uFillTx/>
                <a:latin typeface="Times New Roman"/>
              </a:rPr>
              <a:t>TIEMPO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374920" y="304920"/>
            <a:ext cx="1900080" cy="453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3300"/>
                </a:solidFill>
                <a:uFillTx/>
                <a:latin typeface="Times New Roman"/>
              </a:rPr>
              <a:t>TIEMPO X +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749840" y="304920"/>
            <a:ext cx="1900080" cy="453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3300"/>
                </a:solidFill>
                <a:uFillTx/>
                <a:latin typeface="Times New Roman"/>
              </a:rPr>
              <a:t>TIEMPO X +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7124760" y="304920"/>
            <a:ext cx="1900080" cy="453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3300"/>
                </a:solidFill>
                <a:uFillTx/>
                <a:latin typeface="Times New Roman"/>
              </a:rPr>
              <a:t>TIEMPO X +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28600" y="1379520"/>
            <a:ext cx="1671480" cy="218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Arial"/>
              </a:rPr>
              <a:t>Rendimiento: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Arial"/>
              </a:rPr>
              <a:t>Evaluación de ent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Arial"/>
              </a:rPr>
              <a:t>(antes del aprendizaj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374920" y="1379520"/>
            <a:ext cx="1900080" cy="63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Arial"/>
              </a:rPr>
              <a:t>Rendimiento: P +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4749840" y="1379520"/>
            <a:ext cx="1900080" cy="63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Arial"/>
              </a:rPr>
              <a:t>Rendimiento: P +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7124760" y="1379520"/>
            <a:ext cx="1900080" cy="20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Arial"/>
              </a:rPr>
              <a:t>Rendimiento: P +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Arial"/>
              </a:rPr>
              <a:t>Cambios en el comport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Arial"/>
              </a:rPr>
              <a:t>Control de aprendizaj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Arial"/>
              </a:rPr>
              <a:t>Evaluación de sal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3087720" y="3016080"/>
            <a:ext cx="2849400" cy="5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3300"/>
                </a:solidFill>
                <a:latin typeface="Arial"/>
              </a:rPr>
              <a:t>Evaluación form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Proceso de aprendiz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949320" y="3925800"/>
            <a:ext cx="2257560" cy="178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Arial"/>
              </a:rPr>
              <a:t>Arreglo de condiciones del aprendiz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Arial"/>
              </a:rPr>
              <a:t>(Diseño instruccion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Arial"/>
              </a:rPr>
              <a:t>Variable Independ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7124760" y="5029200"/>
            <a:ext cx="1900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Arial"/>
              </a:rPr>
              <a:t>Variable Depend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4"/>
          <p:cNvSpPr/>
          <p:nvPr/>
        </p:nvSpPr>
        <p:spPr>
          <a:xfrm flipV="1">
            <a:off x="2019240" y="1668600"/>
            <a:ext cx="0" cy="20923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5"/>
          <p:cNvSpPr/>
          <p:nvPr/>
        </p:nvSpPr>
        <p:spPr>
          <a:xfrm flipV="1">
            <a:off x="2019240" y="4572000"/>
            <a:ext cx="0" cy="63648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6"/>
          <p:cNvSpPr/>
          <p:nvPr/>
        </p:nvSpPr>
        <p:spPr>
          <a:xfrm flipV="1">
            <a:off x="8077320" y="3429000"/>
            <a:ext cx="0" cy="137160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18"/>
          <p:cNvGraphicFramePr/>
          <p:nvPr/>
        </p:nvGraphicFramePr>
        <p:xfrm>
          <a:off x="0" y="6172200"/>
          <a:ext cx="9131400" cy="86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172200"/>
                    <a:ext cx="91314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Picture 19" descr=""/>
          <p:cNvPicPr/>
          <p:nvPr/>
        </p:nvPicPr>
        <p:blipFill>
          <a:blip r:embed="rId3"/>
          <a:stretch/>
        </p:blipFill>
        <p:spPr>
          <a:xfrm>
            <a:off x="3809880" y="3886200"/>
            <a:ext cx="1463760" cy="1828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4" name="AVISO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6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91BA-6E30-477C-B093-FE457D81026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2060640"/>
            <a:ext cx="241128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Comportamiento al  año  2009  es entendido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916000" y="907560"/>
            <a:ext cx="6227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Comportamientos    abiertos,    públicos, observables   direct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Comportamientos privados, encubiertos, internos, no observables direct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Incluye un amplia variedad de procesos psicológicos que ocurre en el aprendizaje         o cuando un comportamiento tiene lug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. Percepción selectiva              . Cre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. Motivación                               . Inteligencias Múlti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. Estilos de pensar                    . Actitu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. Estrategias cognitivas           . Valores y cre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. Estrategias metacognitivas   . Autoest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. Solución de Probl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 flipV="1">
            <a:off x="2268360" y="1196640"/>
            <a:ext cx="72108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6"/>
          <p:cNvSpPr/>
          <p:nvPr/>
        </p:nvSpPr>
        <p:spPr>
          <a:xfrm>
            <a:off x="2268360" y="2421000"/>
            <a:ext cx="7210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24000" y="6453360"/>
            <a:ext cx="856908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Arial Narrow"/>
              </a:rPr>
              <a:t>Figura N° 3: LA NATURALEZA DEL COMPORTAMIENTO. Anicama, J. (2009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80E2-5581-4237-B265-F6E4CD2180C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3300"/>
                </a:solidFill>
                <a:latin typeface="Times New Roman"/>
              </a:rPr>
              <a:t>Objetivo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3068640"/>
            <a:ext cx="8280360" cy="1225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00"/>
                </a:solidFill>
                <a:latin typeface="Times New Roman"/>
              </a:rPr>
              <a:t>DISCRIMINAR Y UTILIZAR LOS MODELOS DE ESTUDIO DEL APRENDIZA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7FDF-E827-44C0-B42C-4A8C22212B1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91440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imes New Roman"/>
              </a:rPr>
              <a:t>1. Modelo E-R: El aprendizaje como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684360" y="2133720"/>
            <a:ext cx="7772400" cy="3047760"/>
            <a:chOff x="684360" y="2133720"/>
            <a:chExt cx="7772400" cy="3047760"/>
          </a:xfrm>
        </p:grpSpPr>
        <p:sp>
          <p:nvSpPr>
            <p:cNvPr id="103" name="Rectangle 4"/>
            <p:cNvSpPr/>
            <p:nvPr/>
          </p:nvSpPr>
          <p:spPr>
            <a:xfrm>
              <a:off x="684360" y="2133720"/>
              <a:ext cx="7772400" cy="3047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5"/>
            <p:cNvSpPr/>
            <p:nvPr/>
          </p:nvSpPr>
          <p:spPr>
            <a:xfrm>
              <a:off x="1735200" y="2742840"/>
              <a:ext cx="944640" cy="1015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3300"/>
                  </a:solidFill>
                  <a:latin typeface="Times New Roman"/>
                </a:rPr>
                <a:t>E</a:t>
              </a:r>
              <a:r>
                <a:rPr b="1" lang="es-ES" sz="3200" spc="-1" strike="noStrike" baseline="-25000">
                  <a:solidFill>
                    <a:srgbClr val="0033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6"/>
            <p:cNvSpPr/>
            <p:nvPr/>
          </p:nvSpPr>
          <p:spPr>
            <a:xfrm>
              <a:off x="4149720" y="2742840"/>
              <a:ext cx="1155960" cy="1015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3300"/>
                  </a:solidFill>
                  <a:latin typeface="Times New Roman"/>
                </a:rPr>
                <a:t>R</a:t>
              </a:r>
              <a:r>
                <a:rPr b="1" lang="es-ES" sz="3200" spc="-1" strike="noStrike" baseline="-25000">
                  <a:solidFill>
                    <a:srgbClr val="003300"/>
                  </a:solidFill>
                  <a:latin typeface="Times New Roman"/>
                </a:rPr>
                <a:t>P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7"/>
            <p:cNvSpPr/>
            <p:nvPr/>
          </p:nvSpPr>
          <p:spPr>
            <a:xfrm>
              <a:off x="6775560" y="2742840"/>
              <a:ext cx="946080" cy="1015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3300"/>
                  </a:solidFill>
                  <a:latin typeface="Times New Roman"/>
                </a:rPr>
                <a:t>E</a:t>
              </a:r>
              <a:r>
                <a:rPr b="1" lang="es-ES" sz="3200" spc="-1" strike="noStrike" baseline="-25000">
                  <a:solidFill>
                    <a:srgbClr val="0033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8"/>
            <p:cNvSpPr/>
            <p:nvPr/>
          </p:nvSpPr>
          <p:spPr>
            <a:xfrm>
              <a:off x="2679840" y="3301920"/>
              <a:ext cx="13651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9"/>
            <p:cNvSpPr/>
            <p:nvPr/>
          </p:nvSpPr>
          <p:spPr>
            <a:xfrm>
              <a:off x="5411880" y="3322440"/>
              <a:ext cx="13636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10"/>
            <p:cNvSpPr/>
            <p:nvPr/>
          </p:nvSpPr>
          <p:spPr>
            <a:xfrm>
              <a:off x="1000440" y="4038480"/>
              <a:ext cx="2728800" cy="941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00"/>
                  </a:solidFill>
                  <a:latin typeface="Tahoma"/>
                </a:rPr>
                <a:t>Estimulo anteced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00"/>
                  </a:solidFill>
                  <a:latin typeface="Tahoma"/>
                </a:rPr>
                <a:t>(experiencia educativ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5411880" y="4190760"/>
              <a:ext cx="2739960" cy="685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00"/>
                  </a:solidFill>
                  <a:latin typeface="Tahoma"/>
                </a:rPr>
                <a:t>Estimulo de recompen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Arc 12"/>
            <p:cNvSpPr/>
            <p:nvPr/>
          </p:nvSpPr>
          <p:spPr>
            <a:xfrm flipH="1" flipV="1">
              <a:off x="5096880" y="3622320"/>
              <a:ext cx="1996920" cy="4204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Rectangle 1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Tahoma"/>
              </a:rPr>
              <a:t>Figura N° 4: Modelo de Estudio del Aprendizaje  E - R.  Conce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Tahoma"/>
              </a:rPr>
              <a:t>                      </a:t>
            </a:r>
            <a:r>
              <a:rPr b="1" lang="es-ES_tradnl" sz="2000" spc="-1" strike="noStrike">
                <a:solidFill>
                  <a:srgbClr val="993300"/>
                </a:solidFill>
                <a:latin typeface="Tahoma"/>
              </a:rPr>
              <a:t>Revisado por J. Anicama (20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  <p:sndAc>
      <p:stSnd>
        <p:snd r:embed="rId1" name="DIAPO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6:21:08Z</dcterms:created>
  <dc:creator>softime</dc:creator>
  <dc:description/>
  <dc:language>en-US</dc:language>
  <cp:lastModifiedBy>PC</cp:lastModifiedBy>
  <dcterms:modified xsi:type="dcterms:W3CDTF">2009-04-24T14:37:43Z</dcterms:modified>
  <cp:revision>63</cp:revision>
  <dc:subject/>
  <dc:title>Sin título de diapositiva</dc:title>
</cp:coreProperties>
</file>